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568-27A7-407A-ADB8-1FBFD975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D33-80E3-4CAD-ADCE-008E16E9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121-1593-41C7-B316-2FE736A7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31F-6F42-4E98-A314-32CD251D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89E-821C-45D9-B53F-79FCE1BB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4114-A4AE-442B-A238-4E338CFA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0A5-3D2F-4BE3-9F3E-9C6F229C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3D8-6C3F-4A34-9774-9D66A748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FAA-D57B-488F-8B02-4A1EAC96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837-1DAE-48D1-A0A3-DADCEC95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CED-F7D8-44BE-A293-4E9B6030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B05-1096-4FF5-B69A-E64DED54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4421-1162-4839-AF27-E194E2872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4419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8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drew Augu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e B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9046"/>
            </a:gs>
            <a:gs pos="50000">
              <a:srgbClr val="cc6600"/>
            </a:gs>
            <a:gs pos="100000">
              <a:srgbClr val="da9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rtification is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adation of 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rid and d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humid are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primarily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y soil can be blown or washed away, leaving infertile soil in it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effect areas such as prairies, savannas, rainforests, and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InsertImage"/>
          <p:cNvPicPr/>
          <p:nvPr/>
        </p:nvPicPr>
        <p:blipFill>
          <a:blip r:embed="rId1"/>
          <a:stretch/>
        </p:blipFill>
        <p:spPr>
          <a:xfrm>
            <a:off x="4343400" y="1676520"/>
            <a:ext cx="4800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s of Desertification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85840" y="88416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ou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that receive little rainfall are subject to dry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graz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stock are allowed to feed freely on vegetation without recovery periods for the plants to grow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mpacts the soil – doesn’t allow rain to infil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orestation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ting down trees allows sun to dry the s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ook1_overgrazing2"/>
          <p:cNvPicPr/>
          <p:nvPr/>
        </p:nvPicPr>
        <p:blipFill>
          <a:blip r:embed="rId1"/>
          <a:stretch/>
        </p:blipFill>
        <p:spPr>
          <a:xfrm>
            <a:off x="152280" y="1752480"/>
            <a:ext cx="40388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effects of Desertification?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ects of Desertification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ss of vegetation. Which will make the dry lands vulnerable for er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ops s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ons of people for example the dust storms will cause health problems such as asth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starvation for animals/plants and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limate change caused lakes and rivers to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was harder to farm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d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stock died of sta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haran Africans suffered from hunger and became completely dependant on international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andstorm-sahara-desert"/>
          <p:cNvPicPr/>
          <p:nvPr/>
        </p:nvPicPr>
        <p:blipFill>
          <a:blip r:embed="rId1"/>
          <a:stretch/>
        </p:blipFill>
        <p:spPr>
          <a:xfrm>
            <a:off x="6477120" y="495288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ust Bowl(1930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use of the Dust Bowl was poor farming methods, cultivation and lack of crop r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rought occurred and killed most crops – soil became loose and blew away in wind st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d sand storms and shortage of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5429160" y="4851360"/>
            <a:ext cx="3733920" cy="200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19080" y="439416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ns, Jocelyn. </a:t>
            </a:r>
            <a:r>
              <a:rPr b="0" lang="ja-JP" sz="24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rtification.</a:t>
            </a:r>
            <a:r>
              <a:rPr b="0" lang="ja-JP" sz="24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viro Fa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 Feb. 2001 27 Feb. 2009 &lt;http://www.botany.uwc.ac.za/envFacts/facts/desertification.htm&gt;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nell, Marjorie. "Desertification."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le Encyclopedia of 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d. K. Lee Lerner and Brenda Wilmoth Lerner. 4th ed. Detroit: Gale Group, 2008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ent Resource Center - G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Gale. Stroudsburg High School. 27 Feb. 20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"Scientific Facts on Desertification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een Fa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2005. Millenium Ecosystem Assesment. 27 Feb. 2009 &lt;http://www.greenfacts.org/en/desertification/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3:22:37Z</dcterms:created>
  <dc:creator>sasd</dc:creator>
  <dc:description/>
  <dc:language>en-US</dc:language>
  <cp:lastModifiedBy>dhakim</cp:lastModifiedBy>
  <dcterms:modified xsi:type="dcterms:W3CDTF">2012-03-28T13:20:34Z</dcterms:modified>
  <cp:revision>9</cp:revision>
  <dc:subject/>
  <dc:title>Desertification</dc:title>
</cp:coreProperties>
</file>